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F4F6-CC72-4534-9287-B3EF904A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A3A0-3524-4989-B89C-F7D2BBA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F258-7059-47AB-9A4B-D7EB2560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CB6E-2195-46A4-949E-49D0688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E8E1-9E48-44EE-A7FE-E80EF253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B02-319E-4BCF-84E6-B241F53E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BB70-14AC-4C1F-A652-3E0D9E2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47C-4F2E-49A0-99D6-9211D26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252-1789-40BC-B032-24E76A4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A2C1-559A-48A7-9031-14E53A3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C20-7041-4984-ABCE-6044263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35F1-7FE8-4D2D-8B5B-64CA9BE3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116-D0E1-4662-B824-79FE3C9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59D-8647-456B-BEB7-854085B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81B-D83A-462B-924C-CAC03D25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DB2A-8152-4365-A0A5-4A862A82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376-C398-4114-A961-3FBADA4A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E9F4-EC73-436A-B5FB-1892FF4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029E-C6B2-4655-81BF-7E8344A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BBF8-8666-4221-A984-0454246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A71A-516A-40A5-A265-21DFB645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F5B6-AA07-4FEA-B18A-E75EE52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113F-C693-4F6F-8CAB-172F5D2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B701-2756-4E76-A983-A3BE279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62C-2899-4DC0-BCDB-5F5F5A4FD1E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8051-14FE-47AD-9080-3533785BFE0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67896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12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чу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ме люби Христо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към мен милостив Той ще е; Той наистина ли тук дойде да спаси мен с пречудна любов, любов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паси мен с пречудна любо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Христос от небето слез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умре с кръстна смър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и мен да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чул, че кръвта Си проля, че на кръста кръвта Си проля! Но наистина вярно ли 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Той кръвта Си проля, прол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Той кръвта Си проля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Христос от небето слез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умре с кръстна смър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и мен да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0487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Аз съм чул и за дом в небеса, що за Своите приготвил е Той. Но дали в тоя славен покой има място, готово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а място, готово за м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Христос от небето слез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умре с кръстна смър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и мен да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Исусе, Ти ответ ми дай, Твоят Дух да ми каже се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и стане известно то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Спасител Си Ти и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Спасител Си Ти и за мен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Христос от небето слез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умре с кръстна смър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и мен да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8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3:47Z</dcterms:modified>
  <cp:revision>46</cp:revision>
  <dc:subject/>
  <dc:title>Slide 1</dc:title>
</cp:coreProperties>
</file>